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B50F-B3C9-4762-A8CC-B56158CBCAC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83C0-BFFE-4FEC-8385-72B1E6DEB9C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4AFA-AF15-4176-B255-ED771025175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3C23-6B22-4849-9A66-A5B5A83338C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7C68-E4F8-45D9-99F8-3975FA77972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7D8E-B2CB-4B3E-A9AB-A3CE459478E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DB8C-FB8A-4500-9712-8E67E8D0A6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3CA2-7AED-4A4E-AEA4-609913951E6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725-C430-4BF4-BFC5-FC4D40A0190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CB35-DDC0-464E-9C1F-E3391C9ACF1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01E2-1F10-4F30-83E7-137CA8A2CF4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71FB-1B64-47D2-9039-19F992BAE54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F6B-0ED3-464A-B4E6-883603D2BA3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D762-C4FD-4D97-A5D3-1B442B5E350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474-D7E9-4E93-9D6C-F3591414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5F6-7974-4C8F-9F7F-F666614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DFC-C083-4853-A54E-DD29BE3F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55C-08B0-46AA-B255-8587E2B2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B65-9BCF-4516-9A72-FCD7BAD4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B3A-1A96-4555-94C0-B0089BA0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795-3DE0-44F9-B2C6-CD530684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CE1-E829-4488-AFEC-154DFA4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F38-6166-47E1-8C0C-8B9F59FA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60D-D055-465B-AA58-1E6291E5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BF6-3638-4E06-80F6-A0961A6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E39-108B-4BDC-9D04-CEAFCBE4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8A04-84AE-4C2F-90F9-D74483F7F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j8TGhcCnxs&amp;feature=rela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ing Ligh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 to a higher potential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molecul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photoexcitation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complex organic molecules using energy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“fix”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2-10-31T04:41:34Z</dcterms:modified>
  <cp:revision>87</cp:revision>
  <dc:subject/>
  <dc:title>Slide 1</dc:title>
</cp:coreProperties>
</file>